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D76-2BB5-4895-B414-2BB5B624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505-80B0-438D-AEA9-6D5301DE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183-AEE4-421A-A6B0-69CD9D17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16B-D04E-44F7-8656-F76173F2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3F71-479B-479A-971D-5EBB4849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A32A-CE47-4329-817D-AC974C43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39E4-A0D7-485C-9A8C-94CCC98D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26D0-6821-4DAC-A91F-510119D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B31-9091-4FBC-BBEE-1D2329EC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624-A23F-46F8-87A3-AD3E451A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90F5-D0DF-414A-810D-DCB34634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247-D36A-4D03-8620-7F48B822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34A7-4CB3-4335-AFAD-7DF4987E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06A2-2BDF-4B8A-A03F-7B7E422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4F5-99BE-4C97-BCC1-00DC42B7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279A-37EF-4464-AE52-DE20C6BC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D81E-0C0C-4D8F-87FE-453AF537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F5B-8594-4BC5-95AD-1EF5BF08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DAF-8F18-40A7-A40C-BA0F7230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6A5-0C0B-44BB-8585-9718094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DFD-85D6-4971-A96A-64B2C70D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4AE-40D1-497F-AC13-22991915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939-4B01-482B-A830-92C01137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346-2245-40A3-BDB7-486A61D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7929-2343-4D7D-B085-EE2A0C78D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148B-D4BF-4951-9953-B0A9F7A21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apter 6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3: Conditioning Goals and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Keeping Records, p. 16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ing track of your conditioning program helps you stay aware of your progress. As you improve, you can take pride in your accomplish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gure 6.6 Conditioning Ch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n individual fitness program specific to your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include 4 weeks, with increasing intens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Figure 6.6 for help, p. 16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04920" y="990720"/>
          <a:ext cx="8381880" cy="4327560"/>
        </p:xfrm>
        <a:graphic>
          <a:graphicData uri="http://schemas.openxmlformats.org/drawingml/2006/table">
            <a:tbl>
              <a:tblPr/>
              <a:tblGrid>
                <a:gridCol w="2057400"/>
                <a:gridCol w="2173320"/>
                <a:gridCol w="2009520"/>
                <a:gridCol w="1040040"/>
                <a:gridCol w="1101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Exerc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Time/  Distan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S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Reps/ lb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/T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nch Press, Squ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/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lb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/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r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yd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./Su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sh-up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t u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/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219320"/>
          <a:ext cx="8305200" cy="5437080"/>
        </p:xfrm>
        <a:graphic>
          <a:graphicData uri="http://schemas.openxmlformats.org/drawingml/2006/table">
            <a:tbl>
              <a:tblPr/>
              <a:tblGrid>
                <a:gridCol w="2464200"/>
                <a:gridCol w="2464200"/>
                <a:gridCol w="337680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xerc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Time/D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la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l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mi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(Day off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(Day off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tur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mi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i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60020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ek 1: Cross-Training Fitness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ELL ACTIV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igure skater, a football player, and a spri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of these might take ballet lessons as part of his or her training?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ditioning and Your Goals, p. 159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play a sport regularly, you’ll need time to get into shape for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ining to get in shape is called conditio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in other aspects of your life, you’ll need to set goals for your conditioning if you expect to accomplish any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’d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yourself these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y priorities? (What is most important to me? Fitness? Fun? Friendship? Improving specific skills? Excelling at the sport I have chosen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demands of this sport? (What do my coach and teammates expect of me? How serious do I need to b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ill happen in the future? (What will be expected of me? How might my other responsibilities increase? Do I want to keep on playing this sport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tting Good Advi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t appropriate goals, you may want to ask someone for advice. Your PE teacher, a coach, or possibly a family physician can give you good advice on how to get into condition for a particular s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ymnast needs strength, flexibility, and endurance to perform a variety of gymnastic routi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ketball player needs endurance, speed, and agility to handle the ball, as well as strength for shoo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estler needs strength, agility, flexiblity, and bal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oss-Trai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training is any fitness program that includes a variety of physical activities to promote balanced fit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play several sports, cross-training is essent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likely to get burn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injury by strengthening and stretching complementary mus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total health, including mental/emotional and social health as well as physical health, is improved by achieving overall fitness of your whole bo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voiding Overtraining, p. 16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great to be enthusiastic about getting into condition, but don’t overdo it. Too much exercise without enough rest can be harm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vertraining is exercising too hard or too often, without enough rest in betwee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s of overtrain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normally high heart rate when not exerci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eling sore or tired all th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t ill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ed sleeping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 or inability to concen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t muscle strain or inj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to avoid overtraining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at least one day off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rest of the week, alternate tough workout days with easy 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two months, reduce your exercise intensity for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igure 6.5 A Sample Cross-Training Program, p. 160-161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422360" cy="178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1808280" cy="17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151776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248520" y="2133720"/>
            <a:ext cx="2255760" cy="150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04920" y="4267080"/>
            <a:ext cx="1598400" cy="182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666880" y="4419720"/>
            <a:ext cx="1825920" cy="152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410080" y="4038480"/>
            <a:ext cx="16495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4:11:23Z</dcterms:created>
  <dc:creator>GSCS</dc:creator>
  <dc:description/>
  <dc:language>en-US</dc:language>
  <cp:lastModifiedBy>GSCS</cp:lastModifiedBy>
  <dcterms:modified xsi:type="dcterms:W3CDTF">2010-11-10T19:39:44Z</dcterms:modified>
  <cp:revision>14</cp:revision>
  <dc:subject/>
  <dc:title>Chapter 6</dc:title>
</cp:coreProperties>
</file>